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E47F-38E9-445C-8E70-4DAB80627A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CD10-B75C-48D8-8FAE-D58C9268FB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94C8-7CA7-4302-85B0-024D58AEAA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FFD2-948C-460D-962C-72248B305D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7E44-070F-43CC-93A7-EFE29A69FF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4495-FA99-46F1-B3ED-973A5B747E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0144-122D-40CD-A7F3-DE7CC0D4CF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AD15-3D81-4768-942F-EDE49409AA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EEFA-B2B7-42CC-A894-C12D9BA535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4111-6F1E-432B-BF87-A5ABBCD175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2EB7-32A2-40F5-B6F4-8603E77FDE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CFC-8255-4B3B-8192-6BC0B0D1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02D-EAEF-4060-B556-082836F3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F84-A399-4E42-8825-613301E2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138-D52D-4478-AF45-D70FFCD4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C02-D453-44E2-A37C-D201B9E3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700-ABB5-40E4-9247-0B0DD6BF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94A-C955-4D75-A453-E8F8F32F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BB1-A544-4D07-ABB0-024C7968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E72-25E8-4384-A0AC-7FA789C4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D93-3269-4029-AAFD-CA4DBF8E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886-287A-4D05-BEEC-8DF2D3E8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0C0-2F3C-4E69-91C8-80D3F93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968A-F115-4D17-B552-AC75A11D5D8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OLILLA 9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RACION METABO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7772400" cy="4114800"/>
          </a:xfrm>
          <a:prstGeom prst="rect">
            <a:avLst/>
          </a:prstGeom>
          <a:solidFill>
            <a:srgbClr val="d1fff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apel del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equerimientos de poder redu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mpartimentalización enzimá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Homeostasis de la 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Niveles enzimáticos. Centros de control de las principales vías metabólicas: glicólisis, ciclo de Krebs, vía pentosa, gluconeogénesis, metabolismo del glucógeno, metabolismo de ácidos gra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exiones claves: glucosa-6-fosfato, piruvato y acetil coenzima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erfil metabólico de los órganos más importantes: cerebro, músculo, tejido adiposo, híg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daptación metabólica al ayuno prolongado. Ciclo ayuno-aliment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-27000"/>
            <a:ext cx="8280360" cy="1062000"/>
          </a:xfrm>
          <a:prstGeom prst="rect">
            <a:avLst/>
          </a:prstGeom>
          <a:gradFill rotWithShape="0">
            <a:gsLst>
              <a:gs pos="0">
                <a:srgbClr val="0e521b"/>
              </a:gs>
              <a:gs pos="50000">
                <a:srgbClr val="1fb13b"/>
              </a:gs>
              <a:gs pos="100000">
                <a:srgbClr val="0e52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ARTIMENTALIZAC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125360"/>
            <a:ext cx="3902040" cy="1921320"/>
          </a:xfrm>
          <a:prstGeom prst="rect">
            <a:avLst/>
          </a:prstGeom>
          <a:solidFill>
            <a:srgbClr val="00e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icóli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tabolismo del 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ía de las pentosas fosf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754520" y="2492280"/>
            <a:ext cx="4389480" cy="192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riz mitocond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l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sforilación oxid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oxidación de los á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ción de 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116000" y="5373720"/>
            <a:ext cx="6465960" cy="1189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e0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relación entre ambos compartimi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coneogé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de la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463680" y="2919240"/>
            <a:ext cx="3752640" cy="2313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182600" y="3495600"/>
            <a:ext cx="2241720" cy="11620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8"/>
          <p:cNvSpPr/>
          <p:nvPr/>
        </p:nvSpPr>
        <p:spPr>
          <a:xfrm>
            <a:off x="1344600" y="3595680"/>
            <a:ext cx="1906560" cy="8888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H="1">
            <a:off x="2916000" y="2852640"/>
            <a:ext cx="1942920" cy="1081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826920" y="270828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 flipV="1">
            <a:off x="2124000" y="422064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2124000" y="5011200"/>
            <a:ext cx="43200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9080" cy="171900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n el metabolismo de los lípidos (Biosíntesis y Degradación) la compartimentalización de ambos procesos permite su regulación. Expl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11280" y="3284640"/>
            <a:ext cx="7777080" cy="204372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ntermediarios de Vías metabólicas sintetizados en mitocondrias pueden regular vías metabólicas que tienen lugar en citosol. Ejemplifi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62064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5000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OMEOSTASIS DE LA GLUC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58920" y="1052640"/>
            <a:ext cx="7200720" cy="398880"/>
          </a:xfrm>
          <a:prstGeom prst="rect">
            <a:avLst/>
          </a:prstGeom>
          <a:gradFill rotWithShape="0">
            <a:gsLst>
              <a:gs pos="0">
                <a:srgbClr val="287662"/>
              </a:gs>
              <a:gs pos="50000">
                <a:srgbClr val="57ffd3"/>
              </a:gs>
              <a:gs pos="100000">
                <a:srgbClr val="2876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NIVELES DE GLUCOSA EN SANGRE SON ES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2340000" y="1623960"/>
            <a:ext cx="5256360" cy="11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lucemia en ayunas, sangre 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70-110 mg/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68360" y="3211560"/>
            <a:ext cx="208764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IODO POSPRA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2700360" y="3139920"/>
            <a:ext cx="289080" cy="792360"/>
          </a:xfrm>
          <a:prstGeom prst="upArrow">
            <a:avLst>
              <a:gd name="adj1" fmla="val 50000"/>
              <a:gd name="adj2" fmla="val 685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059280" y="3067200"/>
            <a:ext cx="216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XIMA GLU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0´- 1 h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6372360" y="321156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5076720" y="3284640"/>
            <a:ext cx="1224000" cy="4316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6732720" y="3067200"/>
            <a:ext cx="1368360" cy="936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I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36400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-3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1403280" y="4437000"/>
            <a:ext cx="6481800" cy="1079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regulatorio integrado por 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47640" y="6093000"/>
            <a:ext cx="6409080" cy="398880"/>
          </a:xfrm>
          <a:prstGeom prst="rect">
            <a:avLst/>
          </a:prstGeom>
          <a:solidFill>
            <a:srgbClr val="eea2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segura suministro permanente a los tejidos (SNC ppl/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964720" cy="1143000"/>
          </a:xfrm>
          <a:prstGeom prst="rect">
            <a:avLst/>
          </a:prstGeom>
          <a:gradFill rotWithShape="0">
            <a:gsLst>
              <a:gs pos="0">
                <a:srgbClr val="287662"/>
              </a:gs>
              <a:gs pos="50000">
                <a:srgbClr val="57ffd3"/>
              </a:gs>
              <a:gs pos="100000">
                <a:srgbClr val="287662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A EL MANTENIMIENTO DEL NIVEL NORMAL DE GLUCOSA INDI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2421000"/>
            <a:ext cx="2592360" cy="703800"/>
          </a:xfrm>
          <a:prstGeom prst="rect">
            <a:avLst/>
          </a:prstGeom>
          <a:solidFill>
            <a:srgbClr val="1f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S HIPER- GLUCEM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8360" y="4797360"/>
            <a:ext cx="2592360" cy="703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S HIPO- GLUCEM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995640" y="2205000"/>
            <a:ext cx="4537080" cy="194472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995640" y="4437000"/>
            <a:ext cx="4537080" cy="194472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9478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NDIQUE SOBRE QUE VIAS METABÓLICA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INTERVIENEN IAS HORMONAS PARA MANTENER LA HOMEOSTASIS DE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3960720" cy="3959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RENA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CORTIC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ORTIS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564000" y="1484280"/>
            <a:ext cx="25207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219640" y="2421000"/>
            <a:ext cx="3708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292720" y="3830760"/>
            <a:ext cx="360036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796000" y="5445000"/>
            <a:ext cx="30956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2771640" y="1484280"/>
            <a:ext cx="576360" cy="216000"/>
          </a:xfrm>
          <a:custGeom>
            <a:avLst/>
            <a:gdLst>
              <a:gd name="textAreaLeft" fmla="*/ 100800 w 576360"/>
              <a:gd name="textAreaRight" fmla="*/ 417960 w 576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157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68360" y="1484280"/>
            <a:ext cx="2016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708360" y="2781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92436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7"/>
          <p:cNvSpPr/>
          <p:nvPr/>
        </p:nvSpPr>
        <p:spPr>
          <a:xfrm>
            <a:off x="4572000" y="5661000"/>
            <a:ext cx="1297080" cy="289080"/>
          </a:xfrm>
          <a:prstGeom prst="rightArrow">
            <a:avLst>
              <a:gd name="adj1" fmla="val 50000"/>
              <a:gd name="adj2" fmla="val 112173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90828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GULACION DEL METABO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9177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08000" y="3787920"/>
            <a:ext cx="22320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D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76720" y="1125360"/>
            <a:ext cx="280800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z. Alostér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76720" y="2062080"/>
            <a:ext cx="280800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844720" y="3716280"/>
            <a:ext cx="316728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c.de 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8"/>
          <p:cNvSpPr/>
          <p:nvPr/>
        </p:nvSpPr>
        <p:spPr>
          <a:xfrm>
            <a:off x="5869080" y="2711160"/>
            <a:ext cx="3240000" cy="1652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0" bIns="39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 flipH="1" flipV="1">
            <a:off x="6084720" y="2491920"/>
            <a:ext cx="503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6012000" y="4005360"/>
            <a:ext cx="50472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2700360" y="981000"/>
            <a:ext cx="576360" cy="2376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484360" y="3645000"/>
            <a:ext cx="432000" cy="720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0" y="5661000"/>
            <a:ext cx="50403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MENTALIZ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148360" y="5013360"/>
            <a:ext cx="3635280" cy="1572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MB.MITOC.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PLEJOS. MULTI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003640" y="4869000"/>
            <a:ext cx="216000" cy="1989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1840 h 1989000"/>
              <a:gd name="textAreaBottom" fmla="*/ 1937160 h 19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gradFill rotWithShape="0">
            <a:gsLst>
              <a:gs pos="0">
                <a:srgbClr val="6d988d"/>
              </a:gs>
              <a:gs pos="100000">
                <a:srgbClr val="bdfff2"/>
              </a:gs>
            </a:gsLst>
            <a:lin ang="0"/>
          </a:gradFill>
          <a:ln w="9360">
            <a:solidFill>
              <a:srgbClr val="00cc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gulación de Enzimas Alost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571680" y="1857240"/>
            <a:ext cx="7772400" cy="45720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Lí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Aminoá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Metabolismo de Nucleót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solidFill>
            <a:srgbClr val="ffd1e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Regulación Coval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Rectangle 3"/>
          <p:cNvGrpSpPr/>
          <p:nvPr/>
        </p:nvGrpSpPr>
        <p:grpSpPr>
          <a:xfrm>
            <a:off x="493560" y="1994040"/>
            <a:ext cx="7785360" cy="3870360"/>
            <a:chOff x="493560" y="1994040"/>
            <a:chExt cx="7785360" cy="3870360"/>
          </a:xfrm>
        </p:grpSpPr>
        <p:pic>
          <p:nvPicPr>
            <p:cNvPr id="197" name="Rectangle 3" descr=""/>
            <p:cNvPicPr/>
            <p:nvPr/>
          </p:nvPicPr>
          <p:blipFill>
            <a:blip r:embed="rId1"/>
            <a:stretch/>
          </p:blipFill>
          <p:spPr>
            <a:xfrm>
              <a:off x="493560" y="1994040"/>
              <a:ext cx="778536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00040" y="2000160"/>
              <a:ext cx="7772400" cy="38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etabolismo de Hidratos de Carbo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Metabolismo de Lípi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Regulación a nivel de la Transcripcion ó de la Tra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42680"/>
            <a:ext cx="9215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Glucoquinasa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, Glucógeno sintas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zimas de las reacciones irreversibles de la vía glicolítica y enzimas específicas de la gluconeogén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Lípid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s-ES" sz="3200" spc="-1" strike="noStrike">
                <a:solidFill>
                  <a:srgbClr val="3333ff"/>
                </a:solidFill>
                <a:latin typeface="Times New Roman"/>
              </a:rPr>
              <a:t>Acetil-CoA carboxilasa</a:t>
            </a:r>
            <a:r>
              <a:rPr b="0" lang="es-ES" sz="3200" spc="-1" strike="noStrike">
                <a:solidFill>
                  <a:srgbClr val="3333ff"/>
                </a:solidFill>
                <a:latin typeface="Times New Roman"/>
              </a:rPr>
              <a:t> , </a:t>
            </a:r>
            <a:r>
              <a:rPr b="0" i="1" lang="es-ES" sz="3200" spc="-1" strike="noStrike">
                <a:solidFill>
                  <a:srgbClr val="0000ff"/>
                </a:solidFill>
                <a:latin typeface="Times New Roman"/>
              </a:rPr>
              <a:t>HMG-CoA reductasa, Enzima biosíntesis ácido graso y de 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tabolismo de Aminoácid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zimas del Ciclo de la U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886880" cy="1395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síntesis de 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lucosa 6-fosfat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considera una encrucijada metabólica, su destino   depende de las necesidades de la cél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 ¿Cuáles serían los destinos de la misma en un estado de buena nutri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élula en división ce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Glándula mamaria lac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6000"/>
              </a:gs>
              <a:gs pos="50000">
                <a:srgbClr val="00d000"/>
              </a:gs>
              <a:gs pos="100000">
                <a:srgbClr val="006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TRICION-METABOLIS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3"/>
          <p:cNvSpPr/>
          <p:nvPr/>
        </p:nvSpPr>
        <p:spPr>
          <a:xfrm>
            <a:off x="755640" y="1484280"/>
            <a:ext cx="2665440" cy="115092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4"/>
          <p:cNvSpPr/>
          <p:nvPr/>
        </p:nvSpPr>
        <p:spPr>
          <a:xfrm>
            <a:off x="539640" y="2997360"/>
            <a:ext cx="3024360" cy="108108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UTRI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3492360" y="1676520"/>
            <a:ext cx="1895760" cy="16081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419640" y="3860640"/>
            <a:ext cx="936360" cy="108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24000" y="5013360"/>
            <a:ext cx="2952720" cy="947160"/>
          </a:xfrm>
          <a:prstGeom prst="rect">
            <a:avLst/>
          </a:prstGeom>
          <a:solidFill>
            <a:srgbClr val="fae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BIOSINTESIS Y DEGRAD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51280" y="270828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643280" y="3213000"/>
            <a:ext cx="2664000" cy="520560"/>
          </a:xfrm>
          <a:prstGeom prst="rect">
            <a:avLst/>
          </a:prstGeom>
          <a:gradFill rotWithShape="0">
            <a:gsLst>
              <a:gs pos="0">
                <a:srgbClr val="365571"/>
              </a:gs>
              <a:gs pos="50000">
                <a:srgbClr val="75b8f5"/>
              </a:gs>
              <a:gs pos="100000">
                <a:srgbClr val="3655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BSOR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5364000" y="1197000"/>
            <a:ext cx="3672000" cy="1871640"/>
          </a:xfrm>
          <a:prstGeom prst="ellipse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ACROMOLE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780000" y="3933720"/>
            <a:ext cx="3168360" cy="1584360"/>
          </a:xfrm>
          <a:prstGeom prst="ellipse">
            <a:avLst/>
          </a:prstGeom>
          <a:solidFill>
            <a:srgbClr val="05e1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METABO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333000"/>
            <a:ext cx="88200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QUE VIAS METABOLICAS ESTAN ACTIVAS EN LAS SIGUIENTES  SITUACIONES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Cuando se están consumiendo alimentos ricos en hidrat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urante una carrera de 100 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imes New Roman"/>
              </a:rPr>
              <a:t>Durante una marató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25718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Diferencia metabólica en el hígado y músculo en situación de “ataque o huída”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: Durante una situación de “ataque o de huída” la adrenalina pone en marcha la degradación de glucógeno en el hígado, corazón y músculo esquelético. El producto final de la degradación del glucógeno en el hígado es la glucosa. En cambio, el producto final en el músculo esquelético es el piruv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0040" y="2999880"/>
            <a:ext cx="8429760" cy="371484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- ¿ Por qué se observan diferentes productos de degradación del glucógeno en los dos teji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- ¿ Cuál es la ventaja para el organismo en una situación de “ataque o huída” de tener estas rutas específicas para la degradación del glucógen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69160" cy="113976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CEDENCIAS DEL PIRU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4114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IA GLICO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MINOA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69160" cy="113976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cedencia de la Acetil-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348000" y="4349880"/>
            <a:ext cx="2219400" cy="45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5487840" y="3056040"/>
            <a:ext cx="213048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220760" y="3132000"/>
            <a:ext cx="1825560" cy="454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44440" y="5494320"/>
            <a:ext cx="243540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Oxidación de á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5716440" y="5494320"/>
            <a:ext cx="182592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048120" y="366408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 flipH="1">
            <a:off x="5563800" y="3624120"/>
            <a:ext cx="530280" cy="61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 flipV="1">
            <a:off x="2868480" y="4916520"/>
            <a:ext cx="66384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 flipH="1" flipV="1">
            <a:off x="5729040" y="4799160"/>
            <a:ext cx="657000" cy="47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992160" y="1760400"/>
            <a:ext cx="1901880" cy="82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Hidrat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3200040" y="33526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268360" y="17733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508720" y="3716280"/>
            <a:ext cx="33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GADO, MUSCULO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1280" y="472428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700360" y="475128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292720" y="4653000"/>
            <a:ext cx="1152360" cy="7455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ADH 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348000" y="5300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ena Respi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3635280" y="6237360"/>
            <a:ext cx="136836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6948360" y="6138720"/>
            <a:ext cx="1079640" cy="71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7524720" y="5516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6"/>
          <p:cNvSpPr/>
          <p:nvPr/>
        </p:nvSpPr>
        <p:spPr>
          <a:xfrm>
            <a:off x="6443640" y="4724280"/>
            <a:ext cx="1008000" cy="3603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7"/>
          <p:cNvSpPr/>
          <p:nvPr/>
        </p:nvSpPr>
        <p:spPr>
          <a:xfrm>
            <a:off x="6156360" y="5373720"/>
            <a:ext cx="792000" cy="100800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8"/>
          <p:cNvSpPr/>
          <p:nvPr/>
        </p:nvSpPr>
        <p:spPr>
          <a:xfrm>
            <a:off x="4522680" y="4870440"/>
            <a:ext cx="770040" cy="503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0"/>
          <p:cNvSpPr/>
          <p:nvPr/>
        </p:nvSpPr>
        <p:spPr>
          <a:xfrm flipH="1">
            <a:off x="1834920" y="4149720"/>
            <a:ext cx="433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2627280" y="4149720"/>
            <a:ext cx="289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122400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quema General de la movilización de Triglicéridos en el Tejido Adipo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2987640" y="3500280"/>
            <a:ext cx="58896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076720" y="3500280"/>
            <a:ext cx="50328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CIDOS GRASOS DE NUMERO IMPAR DE ATOMOS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2944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e beneficios tiene la utilización de ácidos grasos de número impar frente a los de número par de átomos de car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Que vitamina es necesaria para que puedan degradarse los últimos tres car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val 22"/>
          <p:cNvSpPr/>
          <p:nvPr/>
        </p:nvSpPr>
        <p:spPr>
          <a:xfrm>
            <a:off x="1692360" y="2276640"/>
            <a:ext cx="4657680" cy="3590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208720" cy="100836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íntesis y degradación de trigliceridos en TEJIDO ADIP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547640" y="1413000"/>
            <a:ext cx="182592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luco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878360" y="1449360"/>
            <a:ext cx="1596960" cy="70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L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l híg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908000" y="2852640"/>
            <a:ext cx="154332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284720" y="2852640"/>
            <a:ext cx="20876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403280" y="3754440"/>
            <a:ext cx="18734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icerol-3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211640" y="3835440"/>
            <a:ext cx="2303640" cy="458280"/>
          </a:xfrm>
          <a:prstGeom prst="rect">
            <a:avLst/>
          </a:prstGeom>
          <a:solidFill>
            <a:srgbClr val="f6cfce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905560" y="4416480"/>
            <a:ext cx="2672280" cy="458280"/>
          </a:xfrm>
          <a:prstGeom prst="rect">
            <a:avLst/>
          </a:prstGeom>
          <a:solidFill>
            <a:srgbClr val="f6cf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TRIGLICE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819520" y="5229360"/>
            <a:ext cx="129528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4114440" y="5205240"/>
            <a:ext cx="197280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405800" y="6127920"/>
            <a:ext cx="123804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5800320" y="5877000"/>
            <a:ext cx="2905560" cy="82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Complejos ác. gras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lbú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681280" y="2133720"/>
            <a:ext cx="0" cy="6858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5435640" y="2205000"/>
            <a:ext cx="0" cy="60948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2637000" y="3311640"/>
            <a:ext cx="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7"/>
          <p:cNvSpPr/>
          <p:nvPr/>
        </p:nvSpPr>
        <p:spPr>
          <a:xfrm>
            <a:off x="5118120" y="3235320"/>
            <a:ext cx="0" cy="6094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8"/>
          <p:cNvSpPr/>
          <p:nvPr/>
        </p:nvSpPr>
        <p:spPr>
          <a:xfrm flipH="1">
            <a:off x="2700000" y="5553000"/>
            <a:ext cx="647640" cy="60336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5076720" y="5491080"/>
            <a:ext cx="432000" cy="505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0"/>
          <p:cNvSpPr/>
          <p:nvPr/>
        </p:nvSpPr>
        <p:spPr>
          <a:xfrm flipH="1">
            <a:off x="3419640" y="4869000"/>
            <a:ext cx="33480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1"/>
          <p:cNvSpPr/>
          <p:nvPr/>
        </p:nvSpPr>
        <p:spPr>
          <a:xfrm>
            <a:off x="4356000" y="4941720"/>
            <a:ext cx="216000" cy="21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3564000" y="5997600"/>
            <a:ext cx="1377720" cy="512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4"/>
          <p:cNvSpPr/>
          <p:nvPr/>
        </p:nvSpPr>
        <p:spPr>
          <a:xfrm>
            <a:off x="2911320" y="6161040"/>
            <a:ext cx="586080" cy="152280"/>
          </a:xfrm>
          <a:prstGeom prst="rightArrow">
            <a:avLst>
              <a:gd name="adj1" fmla="val 50000"/>
              <a:gd name="adj2" fmla="val 9621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25"/>
          <p:cNvSpPr/>
          <p:nvPr/>
        </p:nvSpPr>
        <p:spPr>
          <a:xfrm>
            <a:off x="4998960" y="6161040"/>
            <a:ext cx="585720" cy="152280"/>
          </a:xfrm>
          <a:prstGeom prst="leftArrow">
            <a:avLst>
              <a:gd name="adj1" fmla="val 50000"/>
              <a:gd name="adj2" fmla="val 9615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86960" cy="250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jido adipos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El tejido adiposo tiene un metabolismo dinámico, llevando a cabo biosíntesis de triglicéridos en periodos de prevalencia de sustratos y degradando los mismos en situación de ayuno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respecto al proceso de degradación  expliqu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6680" y="2928960"/>
            <a:ext cx="8458200" cy="357192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ál ó cuales son los estímulos que puede recibir el tejido adiposo para activar la enzima clave para la lip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e productos se liberan a sangre y cual/cuales son su/sus destin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Enumere situaciones metabólicas: fisiológicas ó patológicas que activen est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14300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os monosacaridos en el Hí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4"/>
          <p:cNvSpPr/>
          <p:nvPr/>
        </p:nvSpPr>
        <p:spPr>
          <a:xfrm>
            <a:off x="2050920" y="2205000"/>
            <a:ext cx="429264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843280" y="2924280"/>
            <a:ext cx="2016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50920" y="1916280"/>
            <a:ext cx="1728720" cy="138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 y fru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4417920" y="357336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693960" y="4145040"/>
            <a:ext cx="22464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. Glic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659040" y="5013360"/>
            <a:ext cx="1812960" cy="72540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3500280" y="5940360"/>
            <a:ext cx="2024280" cy="94464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6372360" y="5872320"/>
            <a:ext cx="2023920" cy="944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. 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5508720" y="6381720"/>
            <a:ext cx="855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156360" y="3716280"/>
            <a:ext cx="16653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1979640" y="263700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4859280" y="3284640"/>
            <a:ext cx="12970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5651640" y="2708280"/>
            <a:ext cx="22334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Vía Pent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7"/>
          <p:cNvSpPr/>
          <p:nvPr/>
        </p:nvSpPr>
        <p:spPr>
          <a:xfrm flipV="1">
            <a:off x="5076720" y="2924280"/>
            <a:ext cx="64764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987640" y="2205000"/>
            <a:ext cx="187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995640" y="2636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0"/>
          <p:cNvSpPr/>
          <p:nvPr/>
        </p:nvSpPr>
        <p:spPr>
          <a:xfrm>
            <a:off x="4500720" y="57340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1116000" y="3716280"/>
            <a:ext cx="237636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geno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2"/>
          <p:cNvSpPr/>
          <p:nvPr/>
        </p:nvSpPr>
        <p:spPr>
          <a:xfrm flipV="1">
            <a:off x="2987640" y="34290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3"/>
          <p:cNvSpPr/>
          <p:nvPr/>
        </p:nvSpPr>
        <p:spPr>
          <a:xfrm flipH="1">
            <a:off x="2700360" y="6308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490680" y="5872320"/>
            <a:ext cx="2313000" cy="944280"/>
          </a:xfrm>
          <a:prstGeom prst="ellipse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íntesi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Oval 17"/>
          <p:cNvSpPr/>
          <p:nvPr/>
        </p:nvSpPr>
        <p:spPr>
          <a:xfrm>
            <a:off x="3780000" y="5854680"/>
            <a:ext cx="2523960" cy="1003320"/>
          </a:xfrm>
          <a:prstGeom prst="ellipse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3995640" y="6035760"/>
            <a:ext cx="2192400" cy="458280"/>
          </a:xfrm>
          <a:prstGeom prst="rect">
            <a:avLst/>
          </a:prstGeom>
          <a:solidFill>
            <a:srgbClr val="abf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"/>
          <p:cNvSpPr/>
          <p:nvPr/>
        </p:nvSpPr>
        <p:spPr>
          <a:xfrm>
            <a:off x="2124000" y="2492280"/>
            <a:ext cx="429264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59680" cy="113976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abolismo de los Acidos Grasos en el HÍG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6521760" y="1557360"/>
            <a:ext cx="201528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las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300720" y="2924280"/>
            <a:ext cx="279720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idos grasos (unidos Albúmina) llegan de la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5076720" y="4365720"/>
            <a:ext cx="230364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ADH, FAD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2987640" y="4365720"/>
            <a:ext cx="1655640" cy="39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-oxid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8"/>
          <p:cNvSpPr/>
          <p:nvPr/>
        </p:nvSpPr>
        <p:spPr>
          <a:xfrm flipV="1">
            <a:off x="5364000" y="2133720"/>
            <a:ext cx="1008360" cy="88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5076720" y="35733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3781440" y="5086440"/>
            <a:ext cx="215748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716360" y="400536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4"/>
          <p:cNvSpPr/>
          <p:nvPr/>
        </p:nvSpPr>
        <p:spPr>
          <a:xfrm flipH="1">
            <a:off x="2771640" y="537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4716360" y="4005360"/>
            <a:ext cx="360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6"/>
          <p:cNvSpPr/>
          <p:nvPr/>
        </p:nvSpPr>
        <p:spPr>
          <a:xfrm>
            <a:off x="4859280" y="5589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6372360" y="6165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4"/>
          <p:cNvSpPr/>
          <p:nvPr/>
        </p:nvSpPr>
        <p:spPr>
          <a:xfrm>
            <a:off x="6588000" y="5950080"/>
            <a:ext cx="107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7451640" y="6021360"/>
            <a:ext cx="863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3209760" y="5589720"/>
            <a:ext cx="730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2914920" y="2852640"/>
            <a:ext cx="2464920" cy="45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ipidos hepa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2987280" y="3429000"/>
            <a:ext cx="2048760" cy="45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idos gra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324000" y="5013360"/>
            <a:ext cx="2016000" cy="458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MG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318960" y="3352680"/>
            <a:ext cx="116208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3"/>
          <p:cNvSpPr/>
          <p:nvPr/>
        </p:nvSpPr>
        <p:spPr>
          <a:xfrm>
            <a:off x="1547640" y="36450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4"/>
          <p:cNvSpPr/>
          <p:nvPr/>
        </p:nvSpPr>
        <p:spPr>
          <a:xfrm>
            <a:off x="2556000" y="2492280"/>
            <a:ext cx="296640" cy="22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eri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2160" y="6165720"/>
            <a:ext cx="150804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1619280" y="6091200"/>
            <a:ext cx="1584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7"/>
          <p:cNvSpPr/>
          <p:nvPr/>
        </p:nvSpPr>
        <p:spPr>
          <a:xfrm flipH="1">
            <a:off x="880560" y="5646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8"/>
          <p:cNvSpPr/>
          <p:nvPr/>
        </p:nvSpPr>
        <p:spPr>
          <a:xfrm>
            <a:off x="1835280" y="56610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9"/>
          <p:cNvSpPr/>
          <p:nvPr/>
        </p:nvSpPr>
        <p:spPr>
          <a:xfrm flipH="1" flipV="1">
            <a:off x="3851280" y="5805360"/>
            <a:ext cx="433440" cy="14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0"/>
          <p:cNvSpPr/>
          <p:nvPr/>
        </p:nvSpPr>
        <p:spPr>
          <a:xfrm>
            <a:off x="0" y="4724280"/>
            <a:ext cx="3203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400" y="3789360"/>
            <a:ext cx="9135360" cy="2962080"/>
            <a:chOff x="5400" y="3789360"/>
            <a:chExt cx="9135360" cy="2962080"/>
          </a:xfrm>
        </p:grpSpPr>
        <p:sp>
          <p:nvSpPr>
            <p:cNvPr id="61" name="AutoShape 3"/>
            <p:cNvSpPr/>
            <p:nvPr/>
          </p:nvSpPr>
          <p:spPr>
            <a:xfrm flipH="1">
              <a:off x="3419640" y="4292640"/>
              <a:ext cx="1800000" cy="431640"/>
            </a:xfrm>
            <a:custGeom>
              <a:avLst/>
              <a:gdLst>
                <a:gd name="textAreaLeft" fmla="*/ 315000 w 1800000"/>
                <a:gd name="textAreaRight" fmla="*/ 1305000 w 180000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6066000" y="3789360"/>
              <a:ext cx="3074760" cy="2654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olécul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ecurs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Monosacár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Ácidos gra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minoác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Bases nitrogena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400" y="4097160"/>
              <a:ext cx="2719800" cy="2654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acromolécul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elula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olisacár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2340000" y="4581360"/>
              <a:ext cx="3672000" cy="1368720"/>
            </a:xfrm>
            <a:prstGeom prst="leftArrow">
              <a:avLst>
                <a:gd name="adj1" fmla="val 41296"/>
                <a:gd name="adj2" fmla="val 51780"/>
              </a:avLst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VIAS ANABOL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(Síntesis reductor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7"/>
          <p:cNvGrpSpPr/>
          <p:nvPr/>
        </p:nvGrpSpPr>
        <p:grpSpPr>
          <a:xfrm>
            <a:off x="2160" y="260280"/>
            <a:ext cx="9140400" cy="4176720"/>
            <a:chOff x="2160" y="260280"/>
            <a:chExt cx="9140400" cy="4176720"/>
          </a:xfrm>
        </p:grpSpPr>
        <p:sp>
          <p:nvSpPr>
            <p:cNvPr id="66" name="Text Box 8"/>
            <p:cNvSpPr/>
            <p:nvPr/>
          </p:nvSpPr>
          <p:spPr>
            <a:xfrm>
              <a:off x="2160" y="549360"/>
              <a:ext cx="2262600" cy="2654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utrien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nten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Carbohidra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Líp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Proteí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9"/>
            <p:cNvSpPr/>
            <p:nvPr/>
          </p:nvSpPr>
          <p:spPr>
            <a:xfrm>
              <a:off x="2340000" y="765000"/>
              <a:ext cx="4896000" cy="1584360"/>
            </a:xfrm>
            <a:prstGeom prst="rightArrow">
              <a:avLst>
                <a:gd name="adj1" fmla="val 45657"/>
                <a:gd name="adj2" fmla="val 57669"/>
              </a:avLst>
            </a:prstGeom>
            <a:solidFill>
              <a:srgbClr val="ffff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VIAS CATABOLIC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(Degradación oxidativ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7370640" y="260280"/>
              <a:ext cx="1771920" cy="3107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duct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aren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 Ener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CO</a:t>
              </a:r>
              <a:r>
                <a:rPr b="1" lang="es-ES_tradnl" sz="2400" spc="-1" strike="noStrike" baseline="-18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r>
                <a:rPr b="1" lang="es-ES_tradnl" sz="2400" spc="-1" strike="noStrike" baseline="-18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660066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1" lang="es-ES_tradnl" sz="2400" spc="-1" strike="noStrike" baseline="-18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1"/>
            <p:cNvSpPr/>
            <p:nvPr/>
          </p:nvSpPr>
          <p:spPr>
            <a:xfrm>
              <a:off x="4211640" y="2492280"/>
              <a:ext cx="2016000" cy="1728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s-ES_tradnl" sz="2400" spc="-1" strike="noStrike" baseline="-18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5974920" y="2755800"/>
              <a:ext cx="1183680" cy="703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ergí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Quím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13"/>
            <p:cNvSpPr/>
            <p:nvPr/>
          </p:nvSpPr>
          <p:spPr>
            <a:xfrm>
              <a:off x="3203640" y="1989000"/>
              <a:ext cx="2016000" cy="505080"/>
            </a:xfrm>
            <a:custGeom>
              <a:avLst/>
              <a:gdLst>
                <a:gd name="textAreaLeft" fmla="*/ 352800 w 2016000"/>
                <a:gd name="textAreaRight" fmla="*/ 1461600 w 2016000"/>
                <a:gd name="textAreaTop" fmla="*/ 67680 h 505080"/>
                <a:gd name="textAreaBottom" fmla="*/ 43740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4"/>
            <p:cNvSpPr/>
            <p:nvPr/>
          </p:nvSpPr>
          <p:spPr>
            <a:xfrm>
              <a:off x="2050920" y="2565360"/>
              <a:ext cx="2160720" cy="18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_tradnl" sz="2400" spc="-1" strike="noStrike" baseline="24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r>
                <a:rPr b="1" lang="es-ES_tradnl" sz="2400" spc="-1" strike="noStrike" baseline="26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DP+HPO</a:t>
              </a:r>
              <a:r>
                <a:rPr b="1" lang="es-ES_tradnl" sz="2400" spc="-1" strike="noStrike" baseline="-18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s-ES_tradnl" sz="2400" spc="-1" strike="noStrike" baseline="24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43"/>
          <p:cNvSpPr/>
          <p:nvPr/>
        </p:nvSpPr>
        <p:spPr>
          <a:xfrm>
            <a:off x="4716360" y="4365720"/>
            <a:ext cx="98748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2"/>
          <p:cNvSpPr/>
          <p:nvPr/>
        </p:nvSpPr>
        <p:spPr>
          <a:xfrm>
            <a:off x="2050920" y="2492280"/>
            <a:ext cx="6353280" cy="2346480"/>
          </a:xfrm>
          <a:prstGeom prst="pie">
            <a:avLst/>
          </a:prstGeom>
          <a:solidFill>
            <a:srgbClr val="ff3300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21480" cy="9446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de los Aminoácidos en el Hí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353400" y="1703520"/>
            <a:ext cx="2719440" cy="45828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inas hep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50920" y="1268280"/>
            <a:ext cx="234000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ucleótidos Hormo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rfir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0226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6659640" y="1268280"/>
            <a:ext cx="223344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ínas plas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438280" y="373392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3492360" y="2924280"/>
            <a:ext cx="2374920" cy="824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minoácidos en el hí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6877080" y="3357720"/>
            <a:ext cx="1944720" cy="118980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                      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7020000" y="2349360"/>
            <a:ext cx="1511280" cy="824040"/>
          </a:xfrm>
          <a:prstGeom prst="rect">
            <a:avLst/>
          </a:prstGeom>
          <a:solidFill>
            <a:srgbClr val="abffe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eí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s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4211640" y="2274480"/>
            <a:ext cx="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5796000" y="1844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 flipV="1">
            <a:off x="5940360" y="2781000"/>
            <a:ext cx="1008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5940360" y="3573360"/>
            <a:ext cx="792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 flipH="1" flipV="1">
            <a:off x="2700000" y="2276640"/>
            <a:ext cx="109692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5292720" y="4508640"/>
            <a:ext cx="97164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20"/>
          <p:cNvSpPr/>
          <p:nvPr/>
        </p:nvSpPr>
        <p:spPr>
          <a:xfrm>
            <a:off x="6516720" y="4797360"/>
            <a:ext cx="31896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6877080" y="4508640"/>
            <a:ext cx="86508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0" y="4941720"/>
            <a:ext cx="1692360" cy="82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ógeno  en mús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2055600" y="5157720"/>
            <a:ext cx="123660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4"/>
          <p:cNvSpPr/>
          <p:nvPr/>
        </p:nvSpPr>
        <p:spPr>
          <a:xfrm flipH="1">
            <a:off x="3225600" y="5373720"/>
            <a:ext cx="3380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25"/>
          <p:cNvSpPr/>
          <p:nvPr/>
        </p:nvSpPr>
        <p:spPr>
          <a:xfrm flipH="1">
            <a:off x="1692360" y="53737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26"/>
          <p:cNvSpPr/>
          <p:nvPr/>
        </p:nvSpPr>
        <p:spPr>
          <a:xfrm>
            <a:off x="4284720" y="5734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7"/>
          <p:cNvSpPr/>
          <p:nvPr/>
        </p:nvSpPr>
        <p:spPr>
          <a:xfrm>
            <a:off x="1547640" y="6093000"/>
            <a:ext cx="198756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8"/>
          <p:cNvSpPr/>
          <p:nvPr/>
        </p:nvSpPr>
        <p:spPr>
          <a:xfrm flipH="1">
            <a:off x="3492360" y="6237360"/>
            <a:ext cx="3384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5400" y="6021360"/>
            <a:ext cx="11682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p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0"/>
          <p:cNvSpPr/>
          <p:nvPr/>
        </p:nvSpPr>
        <p:spPr>
          <a:xfrm flipH="1">
            <a:off x="1116000" y="6237360"/>
            <a:ext cx="450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1"/>
          <p:cNvSpPr/>
          <p:nvPr/>
        </p:nvSpPr>
        <p:spPr>
          <a:xfrm>
            <a:off x="8106120" y="5373720"/>
            <a:ext cx="793080" cy="45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-92160" y="63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35"/>
          <p:cNvSpPr/>
          <p:nvPr/>
        </p:nvSpPr>
        <p:spPr>
          <a:xfrm>
            <a:off x="7451640" y="5661000"/>
            <a:ext cx="6494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36"/>
          <p:cNvSpPr/>
          <p:nvPr/>
        </p:nvSpPr>
        <p:spPr>
          <a:xfrm>
            <a:off x="3276720" y="3860640"/>
            <a:ext cx="2663640" cy="458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GRA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37"/>
          <p:cNvSpPr/>
          <p:nvPr/>
        </p:nvSpPr>
        <p:spPr>
          <a:xfrm>
            <a:off x="3576600" y="5013360"/>
            <a:ext cx="1932120" cy="6573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IRU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38"/>
          <p:cNvSpPr/>
          <p:nvPr/>
        </p:nvSpPr>
        <p:spPr>
          <a:xfrm>
            <a:off x="3780000" y="6012000"/>
            <a:ext cx="1931760" cy="65700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39"/>
          <p:cNvSpPr/>
          <p:nvPr/>
        </p:nvSpPr>
        <p:spPr>
          <a:xfrm>
            <a:off x="5580000" y="5373720"/>
            <a:ext cx="2232000" cy="647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ICLO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40"/>
          <p:cNvSpPr/>
          <p:nvPr/>
        </p:nvSpPr>
        <p:spPr>
          <a:xfrm flipV="1">
            <a:off x="5651640" y="6021360"/>
            <a:ext cx="7444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324000" y="2637000"/>
            <a:ext cx="1944360" cy="10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45"/>
          <p:cNvSpPr/>
          <p:nvPr/>
        </p:nvSpPr>
        <p:spPr>
          <a:xfrm>
            <a:off x="2340000" y="3284640"/>
            <a:ext cx="1079640" cy="73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6"/>
          <p:cNvSpPr/>
          <p:nvPr/>
        </p:nvSpPr>
        <p:spPr>
          <a:xfrm>
            <a:off x="179280" y="3789360"/>
            <a:ext cx="187164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inoácidos Proteínas mu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7"/>
          <p:cNvSpPr/>
          <p:nvPr/>
        </p:nvSpPr>
        <p:spPr>
          <a:xfrm flipV="1">
            <a:off x="2195640" y="3933360"/>
            <a:ext cx="1152360" cy="358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49"/>
          <p:cNvSpPr/>
          <p:nvPr/>
        </p:nvSpPr>
        <p:spPr>
          <a:xfrm rot="5943600">
            <a:off x="5879520" y="4137120"/>
            <a:ext cx="289080" cy="3142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0"/>
          <p:cNvSpPr/>
          <p:nvPr/>
        </p:nvSpPr>
        <p:spPr>
          <a:xfrm>
            <a:off x="4572000" y="4437000"/>
            <a:ext cx="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0" y="5013360"/>
            <a:ext cx="9144000" cy="19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8893080" cy="8906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tabolismo en el Mús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2631960" y="1197000"/>
            <a:ext cx="15750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5148360" y="1413000"/>
            <a:ext cx="160632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c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4680" y="2870280"/>
            <a:ext cx="2557800" cy="118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Acidos gr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Cuerpos cet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osa en 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2680560" y="4192560"/>
            <a:ext cx="125496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5062680" y="4192560"/>
            <a:ext cx="110304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3907440" y="5334120"/>
            <a:ext cx="179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6539040" y="3200400"/>
            <a:ext cx="221616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Fosfocre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6816600" y="3962520"/>
            <a:ext cx="1511280" cy="45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111240" y="1341360"/>
            <a:ext cx="2464920" cy="45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</a:rPr>
              <a:t>Actividad int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14"/>
          <p:cNvSpPr/>
          <p:nvPr/>
        </p:nvSpPr>
        <p:spPr>
          <a:xfrm>
            <a:off x="3348000" y="2060640"/>
            <a:ext cx="2886120" cy="10540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15"/>
          <p:cNvSpPr/>
          <p:nvPr/>
        </p:nvSpPr>
        <p:spPr>
          <a:xfrm>
            <a:off x="3328920" y="3124080"/>
            <a:ext cx="2697120" cy="91620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6"/>
          <p:cNvSpPr/>
          <p:nvPr/>
        </p:nvSpPr>
        <p:spPr>
          <a:xfrm>
            <a:off x="2593800" y="3141720"/>
            <a:ext cx="382752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7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8"/>
          <p:cNvSpPr/>
          <p:nvPr/>
        </p:nvSpPr>
        <p:spPr>
          <a:xfrm>
            <a:off x="7791480" y="3576600"/>
            <a:ext cx="717480" cy="3906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19"/>
          <p:cNvSpPr/>
          <p:nvPr/>
        </p:nvSpPr>
        <p:spPr>
          <a:xfrm>
            <a:off x="7653240" y="3652920"/>
            <a:ext cx="214560" cy="23796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20"/>
          <p:cNvSpPr/>
          <p:nvPr/>
        </p:nvSpPr>
        <p:spPr>
          <a:xfrm>
            <a:off x="3573360" y="4660920"/>
            <a:ext cx="2251080" cy="611280"/>
          </a:xfrm>
          <a:prstGeom prst="pie">
            <a:avLst/>
          </a:prstGeom>
          <a:noFill/>
          <a:ln cap="rnd"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6372360" y="5445000"/>
            <a:ext cx="25174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icólisis &gt;&gt;&gt;C.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2"/>
          <p:cNvSpPr/>
          <p:nvPr/>
        </p:nvSpPr>
        <p:spPr>
          <a:xfrm>
            <a:off x="5813280" y="5791320"/>
            <a:ext cx="301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3"/>
          <p:cNvSpPr/>
          <p:nvPr/>
        </p:nvSpPr>
        <p:spPr>
          <a:xfrm flipH="1">
            <a:off x="2987640" y="5734080"/>
            <a:ext cx="10065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34920" y="5229360"/>
            <a:ext cx="2879640" cy="10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ICLO DE C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ICLO GLU-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6375600" y="4653000"/>
            <a:ext cx="2464920" cy="45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</a:rPr>
              <a:t>Actividad int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16000" y="2293920"/>
            <a:ext cx="3527280" cy="4582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idad ligera o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6443640" y="2852640"/>
            <a:ext cx="100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769160" cy="125388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e0a5"/>
              </a:gs>
              <a:gs pos="100000">
                <a:srgbClr val="00684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uentes de energía en Cereb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841680" y="2211480"/>
            <a:ext cx="2548800" cy="45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5345640" y="2058840"/>
            <a:ext cx="695880" cy="50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44320" y="3429000"/>
            <a:ext cx="123660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2750400" y="3887640"/>
            <a:ext cx="12549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DP+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5299200" y="3933720"/>
            <a:ext cx="793080" cy="45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2411280" y="5084640"/>
            <a:ext cx="669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Transporte electrogénico por la Na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ATP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Metabolismo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9"/>
          <p:cNvSpPr/>
          <p:nvPr/>
        </p:nvSpPr>
        <p:spPr>
          <a:xfrm>
            <a:off x="3429000" y="2666880"/>
            <a:ext cx="2124000" cy="61128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10"/>
          <p:cNvSpPr/>
          <p:nvPr/>
        </p:nvSpPr>
        <p:spPr>
          <a:xfrm>
            <a:off x="3581280" y="3276720"/>
            <a:ext cx="2090880" cy="45864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1"/>
          <p:cNvSpPr/>
          <p:nvPr/>
        </p:nvSpPr>
        <p:spPr>
          <a:xfrm>
            <a:off x="3708360" y="4437000"/>
            <a:ext cx="1703520" cy="611280"/>
          </a:xfrm>
          <a:prstGeom prst="pie">
            <a:avLst/>
          </a:prstGeom>
          <a:noFill/>
          <a:ln cap="rnd" w="414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2"/>
          <p:cNvSpPr/>
          <p:nvPr/>
        </p:nvSpPr>
        <p:spPr>
          <a:xfrm flipV="1">
            <a:off x="1187280" y="4005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468360" y="4653000"/>
            <a:ext cx="16095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et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324000" y="1628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Times New Roman"/>
              </a:rPr>
              <a:t>AYUNO,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0720" y="85680"/>
            <a:ext cx="8816760" cy="749520"/>
          </a:xfrm>
          <a:prstGeom prst="rect">
            <a:avLst/>
          </a:prstGeom>
          <a:solidFill>
            <a:srgbClr val="00e0a5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DOS METABOLIC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ICLO AYUNO-ALI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60480" y="91440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161928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urso 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44360" y="1484280"/>
            <a:ext cx="18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SPRAND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356000" y="90792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incipales           combustibles u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6732720" y="838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trol Horm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125800" y="1486080"/>
            <a:ext cx="1004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0 – 4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067280" y="1628640"/>
            <a:ext cx="2449440" cy="579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La mayoría de los tejidos utilizan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6659640" y="1916280"/>
            <a:ext cx="2305080" cy="640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tación glucosa 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ejidos perifé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lucógeno,TG,sintesis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-9216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250920" y="2708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52280" y="4267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3924360" y="3933720"/>
            <a:ext cx="2663640" cy="130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lgunos C.CETÓ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MUSCUL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algunos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"/>
          <p:cNvSpPr/>
          <p:nvPr/>
        </p:nvSpPr>
        <p:spPr>
          <a:xfrm>
            <a:off x="289080" y="59817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ANICION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8"/>
          <p:cNvSpPr/>
          <p:nvPr/>
        </p:nvSpPr>
        <p:spPr>
          <a:xfrm>
            <a:off x="3848760" y="5589720"/>
            <a:ext cx="2949840" cy="94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CEREBR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:utiliza 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.CETON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MUSCULO: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sol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.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9"/>
          <p:cNvSpPr/>
          <p:nvPr/>
        </p:nvSpPr>
        <p:spPr>
          <a:xfrm>
            <a:off x="6804000" y="3213000"/>
            <a:ext cx="216072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estimula la rotur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lucogeno hepático y 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6842160" y="4659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21"/>
          <p:cNvSpPr/>
          <p:nvPr/>
        </p:nvSpPr>
        <p:spPr>
          <a:xfrm>
            <a:off x="6653160" y="4292640"/>
            <a:ext cx="221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Hidrólisis TG y Cet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22"/>
          <p:cNvSpPr/>
          <p:nvPr/>
        </p:nvSpPr>
        <p:spPr>
          <a:xfrm>
            <a:off x="2052720" y="278280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4 – 12 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2052720" y="4294080"/>
            <a:ext cx="172548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12 hs –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4"/>
          <p:cNvSpPr/>
          <p:nvPr/>
        </p:nvSpPr>
        <p:spPr>
          <a:xfrm>
            <a:off x="2197080" y="5951520"/>
            <a:ext cx="1220760" cy="397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&gt; 16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28"/>
          <p:cNvGrpSpPr/>
          <p:nvPr/>
        </p:nvGrpSpPr>
        <p:grpSpPr>
          <a:xfrm>
            <a:off x="3995640" y="2565360"/>
            <a:ext cx="2481480" cy="1117440"/>
            <a:chOff x="3995640" y="2565360"/>
            <a:chExt cx="2481480" cy="1117440"/>
          </a:xfrm>
        </p:grpSpPr>
        <p:sp>
          <p:nvSpPr>
            <p:cNvPr id="435" name="Rectangle 25"/>
            <p:cNvSpPr/>
            <p:nvPr/>
          </p:nvSpPr>
          <p:spPr>
            <a:xfrm>
              <a:off x="3995640" y="2565360"/>
              <a:ext cx="2336760" cy="1065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EREBRO</a:t>
              </a: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MUSCU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Times New Roman"/>
                </a:rPr>
                <a:t>HIG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26"/>
            <p:cNvSpPr/>
            <p:nvPr/>
          </p:nvSpPr>
          <p:spPr>
            <a:xfrm>
              <a:off x="5396040" y="3103560"/>
              <a:ext cx="10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ACIDOS GRA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7"/>
            <p:cNvSpPr/>
            <p:nvPr/>
          </p:nvSpPr>
          <p:spPr>
            <a:xfrm>
              <a:off x="5180040" y="3103560"/>
              <a:ext cx="217440" cy="504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Line 29"/>
          <p:cNvSpPr/>
          <p:nvPr/>
        </p:nvSpPr>
        <p:spPr>
          <a:xfrm flipV="1">
            <a:off x="7164360" y="148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0"/>
          <p:cNvSpPr/>
          <p:nvPr/>
        </p:nvSpPr>
        <p:spPr>
          <a:xfrm>
            <a:off x="7375680" y="1479600"/>
            <a:ext cx="116172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INSU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1"/>
          <p:cNvSpPr/>
          <p:nvPr/>
        </p:nvSpPr>
        <p:spPr>
          <a:xfrm flipV="1">
            <a:off x="6732720" y="23479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32"/>
          <p:cNvSpPr/>
          <p:nvPr/>
        </p:nvSpPr>
        <p:spPr>
          <a:xfrm flipV="1">
            <a:off x="6732720" y="19144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33"/>
          <p:cNvSpPr/>
          <p:nvPr/>
        </p:nvSpPr>
        <p:spPr>
          <a:xfrm>
            <a:off x="6727680" y="2776680"/>
            <a:ext cx="227664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4"/>
          <p:cNvSpPr/>
          <p:nvPr/>
        </p:nvSpPr>
        <p:spPr>
          <a:xfrm flipV="1">
            <a:off x="6588000" y="27813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35"/>
          <p:cNvSpPr/>
          <p:nvPr/>
        </p:nvSpPr>
        <p:spPr>
          <a:xfrm>
            <a:off x="6764400" y="3855960"/>
            <a:ext cx="22762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6"/>
          <p:cNvSpPr/>
          <p:nvPr/>
        </p:nvSpPr>
        <p:spPr>
          <a:xfrm>
            <a:off x="6630840" y="5084640"/>
            <a:ext cx="2522880" cy="51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otura de proteína mus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aminoácidos p/gluconeoge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7"/>
          <p:cNvSpPr/>
          <p:nvPr/>
        </p:nvSpPr>
        <p:spPr>
          <a:xfrm flipV="1">
            <a:off x="6659640" y="386028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8"/>
          <p:cNvSpPr/>
          <p:nvPr/>
        </p:nvSpPr>
        <p:spPr>
          <a:xfrm>
            <a:off x="7159680" y="4719600"/>
            <a:ext cx="1162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RT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9"/>
          <p:cNvSpPr/>
          <p:nvPr/>
        </p:nvSpPr>
        <p:spPr>
          <a:xfrm flipV="1">
            <a:off x="6877080" y="4723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0"/>
          <p:cNvSpPr/>
          <p:nvPr/>
        </p:nvSpPr>
        <p:spPr>
          <a:xfrm>
            <a:off x="6978600" y="6087960"/>
            <a:ext cx="2170080" cy="30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GLUCAGON Y ADR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6877080" y="609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57576c"/>
              </a:gs>
              <a:gs pos="50000">
                <a:srgbClr val="bdbde9"/>
              </a:gs>
              <a:gs pos="100000">
                <a:srgbClr val="57576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UTAS METABOL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2217" t="10492" r="12633" b="54240"/>
          <a:stretch/>
        </p:blipFill>
        <p:spPr>
          <a:xfrm>
            <a:off x="34920" y="1773360"/>
            <a:ext cx="8640720" cy="5065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132000" y="3716280"/>
            <a:ext cx="1008360" cy="703800"/>
          </a:xfrm>
          <a:prstGeom prst="rect">
            <a:avLst/>
          </a:prstGeom>
          <a:solidFill>
            <a:srgbClr val="bdbde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4000" y="4581360"/>
            <a:ext cx="21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tabolismo con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724360" y="530064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Anabolismo Div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716360" y="3645000"/>
            <a:ext cx="223200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cetoacetil-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516720" y="2492280"/>
            <a:ext cx="136836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788000" y="4437000"/>
            <a:ext cx="1800000" cy="3988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Acidos Gr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3"/>
          <p:cNvSpPr/>
          <p:nvPr/>
        </p:nvSpPr>
        <p:spPr>
          <a:xfrm>
            <a:off x="179280" y="3141720"/>
            <a:ext cx="1871640" cy="1224000"/>
          </a:xfrm>
          <a:prstGeom prst="ellipse">
            <a:avLst/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VITAM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"/>
          <p:cNvSpPr/>
          <p:nvPr/>
        </p:nvSpPr>
        <p:spPr>
          <a:xfrm>
            <a:off x="2268360" y="3139920"/>
            <a:ext cx="2016360" cy="1152720"/>
          </a:xfrm>
          <a:prstGeom prst="ellipse">
            <a:avLst/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 rot="16200000">
            <a:off x="1295280" y="728640"/>
            <a:ext cx="1224000" cy="3313080"/>
          </a:xfrm>
          <a:prstGeom prst="leftArrowCallout">
            <a:avLst>
              <a:gd name="adj1" fmla="val 67675"/>
              <a:gd name="adj2" fmla="val 67669"/>
              <a:gd name="adj3" fmla="val 16667"/>
              <a:gd name="adj4" fmla="val 66673"/>
            </a:avLst>
          </a:prstGeom>
          <a:solidFill>
            <a:srgbClr val="4fe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55640" y="1916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0"/>
          <p:cNvSpPr/>
          <p:nvPr/>
        </p:nvSpPr>
        <p:spPr>
          <a:xfrm rot="16200000">
            <a:off x="5904000" y="151920"/>
            <a:ext cx="1368360" cy="4032360"/>
          </a:xfrm>
          <a:prstGeom prst="leftArrowCallout">
            <a:avLst>
              <a:gd name="adj1" fmla="val 73678"/>
              <a:gd name="adj2" fmla="val 73671"/>
              <a:gd name="adj3" fmla="val 16667"/>
              <a:gd name="adj4" fmla="val 66673"/>
            </a:avLst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 flipH="1" flipV="1" rot="10800000">
            <a:off x="5507640" y="1773360"/>
            <a:ext cx="2490840" cy="520560"/>
          </a:xfrm>
          <a:prstGeom prst="rect">
            <a:avLst/>
          </a:prstGeom>
          <a:solidFill>
            <a:srgbClr val="00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E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940360" y="3068640"/>
            <a:ext cx="1513080" cy="520560"/>
          </a:xfrm>
          <a:prstGeom prst="rect">
            <a:avLst/>
          </a:prstGeom>
          <a:solidFill>
            <a:srgbClr val="00f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755640" y="189000"/>
            <a:ext cx="8064360" cy="8006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4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VIAS METABOL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 rot="16200000">
            <a:off x="6084000" y="2851920"/>
            <a:ext cx="1440000" cy="4321440"/>
          </a:xfrm>
          <a:prstGeom prst="leftArrowCallout">
            <a:avLst>
              <a:gd name="adj1" fmla="val 75032"/>
              <a:gd name="adj2" fmla="val 75025"/>
              <a:gd name="adj3" fmla="val 16667"/>
              <a:gd name="adj4" fmla="val 66673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ODER RE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012000" y="6093000"/>
            <a:ext cx="1873080" cy="520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AD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69160" cy="865080"/>
          </a:xfrm>
          <a:prstGeom prst="rect">
            <a:avLst/>
          </a:prstGeom>
          <a:gradFill rotWithShape="0">
            <a:gsLst>
              <a:gs pos="0">
                <a:srgbClr val="0e521b"/>
              </a:gs>
              <a:gs pos="50000">
                <a:srgbClr val="1fb13b"/>
              </a:gs>
              <a:gs pos="100000">
                <a:srgbClr val="0e52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PEL REGULADOR DEL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7160" y="1341360"/>
            <a:ext cx="157500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luc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61240" y="1341360"/>
            <a:ext cx="110088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r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13360" y="1341360"/>
            <a:ext cx="142236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247080" y="1341360"/>
            <a:ext cx="2379600" cy="45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2584440"/>
            <a:ext cx="197172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ucosa-6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211480" y="2571840"/>
            <a:ext cx="178416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040280" y="2492280"/>
            <a:ext cx="1971720" cy="458280"/>
          </a:xfrm>
          <a:prstGeom prst="rect">
            <a:avLst/>
          </a:pr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461280" y="2297160"/>
            <a:ext cx="16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rin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irimid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124080" y="400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354480" y="5373720"/>
            <a:ext cx="793080" cy="4582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370120" y="3213000"/>
            <a:ext cx="730800" cy="50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7621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 flipV="1">
            <a:off x="990720" y="187452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8195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V="1">
            <a:off x="2971800" y="186840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464832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4800600" y="179856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7086600" y="1874880"/>
            <a:ext cx="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7238880" y="179856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1547640" y="3100320"/>
            <a:ext cx="1008360" cy="6159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3419640" y="2976480"/>
            <a:ext cx="72720" cy="7398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4"/>
          <p:cNvSpPr/>
          <p:nvPr/>
        </p:nvSpPr>
        <p:spPr>
          <a:xfrm flipH="1">
            <a:off x="4427280" y="2997360"/>
            <a:ext cx="390600" cy="718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411280" y="3645000"/>
            <a:ext cx="2219400" cy="11523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KR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7"/>
          <p:cNvSpPr/>
          <p:nvPr/>
        </p:nvSpPr>
        <p:spPr>
          <a:xfrm>
            <a:off x="3635280" y="4869000"/>
            <a:ext cx="238320" cy="390240"/>
          </a:xfrm>
          <a:prstGeom prst="downArrow">
            <a:avLst>
              <a:gd name="adj1" fmla="val 50000"/>
              <a:gd name="adj2" fmla="val 40952"/>
            </a:avLst>
          </a:prstGeom>
          <a:solidFill>
            <a:srgbClr val="1fb13b"/>
          </a:solidFill>
          <a:ln w="12600">
            <a:solidFill>
              <a:srgbClr val="157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4643280" y="3213000"/>
            <a:ext cx="505080" cy="360360"/>
          </a:xfrm>
          <a:prstGeom prst="pie">
            <a:avLst/>
          </a:pr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6084720" y="3716280"/>
            <a:ext cx="1225800" cy="4669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0"/>
          <p:cNvSpPr/>
          <p:nvPr/>
        </p:nvSpPr>
        <p:spPr>
          <a:xfrm>
            <a:off x="5076720" y="3573360"/>
            <a:ext cx="80496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31"/>
          <p:cNvSpPr/>
          <p:nvPr/>
        </p:nvSpPr>
        <p:spPr>
          <a:xfrm>
            <a:off x="4211640" y="4941720"/>
            <a:ext cx="649440" cy="1916280"/>
          </a:xfrm>
          <a:prstGeom prst="pie">
            <a:avLst/>
          </a:prstGeom>
          <a:noFill/>
          <a:ln cap="rnd"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32"/>
          <p:cNvSpPr/>
          <p:nvPr/>
        </p:nvSpPr>
        <p:spPr>
          <a:xfrm>
            <a:off x="4716360" y="5013360"/>
            <a:ext cx="719280" cy="5763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4757760" y="5948280"/>
            <a:ext cx="677880" cy="576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5651640" y="4869000"/>
            <a:ext cx="3168360" cy="824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ías que consumen energía (Biosínt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565600" y="5846760"/>
            <a:ext cx="3399120" cy="824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s generadores de energía (Degrad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6"/>
          <p:cNvSpPr/>
          <p:nvPr/>
        </p:nvSpPr>
        <p:spPr>
          <a:xfrm flipH="1" flipV="1">
            <a:off x="2484000" y="50385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179280" y="4822920"/>
            <a:ext cx="2160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ransporte 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179280" y="5997600"/>
            <a:ext cx="2160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idos Nucle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9"/>
          <p:cNvSpPr/>
          <p:nvPr/>
        </p:nvSpPr>
        <p:spPr>
          <a:xfrm flipH="1">
            <a:off x="2411280" y="6046920"/>
            <a:ext cx="8654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34920" y="5470560"/>
            <a:ext cx="28083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acción Mu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1"/>
          <p:cNvSpPr/>
          <p:nvPr/>
        </p:nvSpPr>
        <p:spPr>
          <a:xfrm flipH="1">
            <a:off x="2916000" y="57578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91280" cy="1503360"/>
          </a:xfrm>
          <a:prstGeom prst="rect">
            <a:avLst/>
          </a:prstGeom>
          <a:solidFill>
            <a:srgbClr val="ddf6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Ejemplifique en cada caso de que manera el ATP actúa como regul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abe9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iclo de Kr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saminación oxidativa de aminoá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Biosíntesis de nucleótidos pú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3080"/>
            <a:ext cx="8424720" cy="90792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DER REDUCTOR-NAD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2610000"/>
            <a:ext cx="860436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IO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ANTENER REDUCIDO EL GL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DUCCION DE COENZIMAS: BH</a:t>
            </a:r>
            <a:r>
              <a:rPr b="0" lang="es-A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GLUTAMATO DESHIDRO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GRADACION DEL HEMO:HEMOOXIGE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ITOCROMO P450 EN MICR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80000" y="2349360"/>
            <a:ext cx="467964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CIDOS GRASOS SATURADOS E INSATU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HORMONAS ESTERO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UCLEO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44360" y="1197000"/>
            <a:ext cx="8820360" cy="825480"/>
          </a:xfrm>
          <a:prstGeom prst="rect">
            <a:avLst/>
          </a:prstGeom>
          <a:solidFill>
            <a:srgbClr val="f6c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E SINTETIZA EN VIA PENTOSAS Y EN REACCION DE LA ENZIMA MA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62920" cy="12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ff"/>
                </a:solidFill>
                <a:latin typeface="Times New Roman"/>
              </a:rPr>
              <a:t>2) El NADPH es un agente reductor  importante utilizado en rutas anabólica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714680"/>
            <a:ext cx="9144000" cy="4535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a)  Ejemplifique con reacciones de 3 vías metabólicas diferentes donde se utilice este compues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b) Esquematice reacciones donde se reponga NADPH a partir de la forma oxid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c) Indique la importancia de ese compuesto en reacciones de detoxificación. (recuerde la importancia del citocromo P4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4:00:43Z</dcterms:created>
  <dc:creator>pc</dc:creator>
  <dc:description/>
  <dc:language>en-US</dc:language>
  <cp:lastModifiedBy>Usuario</cp:lastModifiedBy>
  <dcterms:modified xsi:type="dcterms:W3CDTF">2012-10-31T00:04:30Z</dcterms:modified>
  <cp:revision>124</cp:revision>
  <dc:subject/>
  <dc:title>Destinos de Piruvato y de Acetil-CoA</dc:title>
</cp:coreProperties>
</file>